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8C48-E8ED-4D2F-9BAE-8B7F7D10E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919F-7752-4E2F-8ADB-A8674DB0A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13A4-184D-4B7E-909E-3AC503C53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9ED0-6211-4894-A667-4ED6FF75F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AE84-69F8-4741-8C0E-F068BE7F5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0FE2-FF57-402F-8CE1-B1969AAEA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00C1-5620-4B14-B40F-BB0FDB678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1C4F-C5F5-4A31-9F5F-55443794E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2214-0AD4-4BD3-9692-2A28F40E9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8DA1-9ACF-47D8-BC6A-57E3E7F9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E994-0448-4E53-8514-9E588E5F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8769-694B-469D-902E-B1EA19F7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9B0736-B841-478A-899A-17A8FA3FD7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454B38-4D1B-408B-A8F6-C043C4C1BC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rcRect l="4848" t="343" r="34424" b="1370"/>
          <a:stretch/>
        </p:blipFill>
        <p:spPr>
          <a:xfrm>
            <a:off x="101520" y="1511280"/>
            <a:ext cx="6642360" cy="760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9T19:15:04Z</dcterms:created>
  <dc:creator>Melissa Conrad</dc:creator>
  <dc:description/>
  <cp:keywords/>
  <dc:language>en-US</dc:language>
  <cp:lastModifiedBy>Melissa Conrad</cp:lastModifiedBy>
  <dcterms:modified xsi:type="dcterms:W3CDTF">2012-01-19T19:15:58Z</dcterms:modified>
  <cp:revision>1</cp:revision>
  <dc:subject/>
  <dc:title>Slide 1</dc:title>
</cp:coreProperties>
</file>