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D4C9-A1CE-4FC0-994B-B7BE433F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4D5-C5C6-4E4B-96AC-10B832E8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BF6-0695-43A7-8490-7D800091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316-1278-4CA0-A430-51B933F4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D60-B1A5-429D-87B0-7FC3B6EC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5F7-27A5-49A0-8A5F-B9AAB972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8E6-FD14-4695-AD20-933A92AD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0E2-5E8B-4135-97BD-39C3BC2F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F14-031C-4981-B427-BD82FA82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1BA-06C3-4271-BB88-18A51EBD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C1CA-AD07-4545-9C1E-0C195A3A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09B-8AAE-4132-B71D-69695B44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9E9E5-7125-42BC-87BC-75E5806653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BB676-6268-4BBC-A360-8F40D60E7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4848" t="343" r="34424" b="1370"/>
          <a:stretch/>
        </p:blipFill>
        <p:spPr>
          <a:xfrm>
            <a:off x="101520" y="1511280"/>
            <a:ext cx="6642360" cy="76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9:15:04Z</dcterms:created>
  <dc:creator>Melissa Conrad</dc:creator>
  <dc:description/>
  <cp:keywords/>
  <dc:language>en-US</dc:language>
  <cp:lastModifiedBy>Melissa Conrad</cp:lastModifiedBy>
  <dcterms:modified xsi:type="dcterms:W3CDTF">2012-01-19T19:15:58Z</dcterms:modified>
  <cp:revision>1</cp:revision>
  <dc:subject/>
  <dc:title>Slide 1</dc:title>
</cp:coreProperties>
</file>