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D63-C93C-4E3D-9E5B-5335B106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C64-2252-44E8-A1AF-6242F571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27D-3F84-42F8-A64F-CE236BFF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D7E-C45E-49F9-A8C6-21FA0E93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06B-169F-4936-9D26-8C41F0D7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037-20E7-4DE8-863B-49060F8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620-0E46-4FBE-A559-512FC65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53C-6A96-460F-8397-CCD04837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1BB-CDB8-4622-A856-3EFB8F1B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6B6-246E-433D-9B19-B09E047F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47A-0DAE-4EE2-AD21-B22E740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ED7-6D3E-466C-968D-43790F6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0A295-5D9E-4777-9A8C-B4BDF80B3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25C8F-B8C3-4198-A64F-BC43F526B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4848" t="343" r="34424" b="1370"/>
          <a:stretch/>
        </p:blipFill>
        <p:spPr>
          <a:xfrm>
            <a:off x="101520" y="1511280"/>
            <a:ext cx="664236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9:15:04Z</dcterms:created>
  <dc:creator>Melissa Conrad</dc:creator>
  <dc:description/>
  <cp:keywords/>
  <dc:language>en-US</dc:language>
  <cp:lastModifiedBy>Melissa Conrad</cp:lastModifiedBy>
  <dcterms:modified xsi:type="dcterms:W3CDTF">2012-01-19T19:15:58Z</dcterms:modified>
  <cp:revision>1</cp:revision>
  <dc:subject/>
  <dc:title>Slide 1</dc:title>
</cp:coreProperties>
</file>