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BA2B3-510F-4EB2-A6C1-4CEB14C14D8F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2D0A7-A02F-412D-BA72-7E0E07A57AC2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B162D-CC01-4A60-86B4-4F5292AAC6F2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valence of hearing loss among male and female participants by age group: Survey of hearing-related health among American Indians from one Northwest tribe, 200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CF9BB-E9CA-43BF-A626-0D2B20C42141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valence of tinnitus among male and female participants by age group: Survey of hearing related health among American Indians from one Northwest tribe, 200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60360" y="1260360"/>
            <a:ext cx="864072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ring-Related Health Among Adult American Indians From a Pacific Northwest Trib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puaolaokalaniakea Gellert, PhD, William Hal Martin, PhD, Jodi A. Lapidus, PhD, Leslie Wosnig, Thomas M. Becker, MD, PhD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erican Journal of Preventive Medicin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ume 52, Issue 3, Pages S258-S262 (March 2017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I: 10.1016/j.amepre.2016.11.00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6 American Journal of Preventive Medicine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4129200" y="79200"/>
            <a:ext cx="88416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gure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22360" y="1647720"/>
            <a:ext cx="6350040" cy="3213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erican Journal of Preventive Medicine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2017 52, S258-S262DOI: (10.1016/j.amepre.2016.11.00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6 American Journal of Preventive Medicine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4129200" y="79200"/>
            <a:ext cx="88416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gure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2360" y="1494000"/>
            <a:ext cx="6350040" cy="3522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erican Journal of Preventive Medicine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2017 52, S258-S262DOI: (10.1016/j.amepre.2016.11.00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6 American Journal of Preventive Medicine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Office User</cp:lastModifiedBy>
  <dcterms:modified xsi:type="dcterms:W3CDTF">2018-03-29T15:36:38Z</dcterms:modified>
  <cp:revision>1</cp:revision>
  <dc:subject/>
  <dc:title>PowerPoint Presentation</dc:title>
</cp:coreProperties>
</file>