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848D7-909D-4AAA-97C8-0378853A5BF2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A9C7B-D952-49E0-8767-BAC731352C9B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9F469-0406-42FF-8FD4-5061460AFC3E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valence of hearing loss among male and female participants by age group: Survey of hearing-related health among American Indians from one Northwest tribe, 200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F54AD-7CEE-4DC5-A307-80A30887D5A6}" type="slidenum">
              <a:rPr b="0" lang="en-US" sz="1400" spc="-1" strike="noStrike">
                <a:solidFill>
                  <a:srgbClr val="303d22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valence of tinnitus among male and female participants by age group: Survey of hearing related health among American Indians from one Northwest tribe, 200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360360" y="1260360"/>
            <a:ext cx="864072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ring-Related Health Among Adult American Indians From a Pacific Northwest Trib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puaolaokalaniakea Gellert, PhD, William Hal Martin, PhD, Jodi A. Lapidus, PhD, Leslie Wosnig, Thomas M. Becker, MD, PhD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erican Journal of Preventive Medicin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ume 52, Issue 3, Pages S258-S262 (March 2017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I: 10.1016/j.amepre.2016.11.00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6 American Journal of Preventive Medicine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4129200" y="79200"/>
            <a:ext cx="88416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gure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422360" y="1647720"/>
            <a:ext cx="6350040" cy="3213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erican Journal of Preventive Medicine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2017 52, S258-S262DOI: (10.1016/j.amepre.2016.11.00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6 American Journal of Preventive Medicine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4129200" y="79200"/>
            <a:ext cx="884160" cy="306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gure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22360" y="1494000"/>
            <a:ext cx="6350040" cy="3522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erican Journal of Preventive Medicine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2017 52, S258-S262DOI: (10.1016/j.amepre.2016.11.00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© 2016 American Journal of Preventive Medicine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Office User</cp:lastModifiedBy>
  <dcterms:modified xsi:type="dcterms:W3CDTF">2018-03-29T15:36:38Z</dcterms:modified>
  <cp:revision>1</cp:revision>
  <dc:subject/>
  <dc:title>PowerPoint Presentation</dc:title>
</cp:coreProperties>
</file>